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A69-A7F0-4812-A39F-60316247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362-B29C-4FD5-91A9-7A556C61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046-806C-452A-A6E7-4FE5FA6E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3C0-3774-49D1-B96D-26093592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6B0-8648-48C2-97F1-CA26A31C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BF6-47EB-4E6F-BED7-1CA87AE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54F-4BAF-4135-8312-0DAFC7C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AA5-DA2B-4B8A-B3F4-893BF84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98C-931B-420D-9C3A-FA7BF4A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1B1-DBC6-4377-9A80-D1927138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183-BEBB-416E-A9DE-268ED0C4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262-5B31-419A-A398-D9E7AC6A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7372-7322-437F-A83A-1D2DE1352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leazar Can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371600" y="3048120"/>
            <a:ext cx="5867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3.gstatic.com/images?q=tbn:ANd9GcQL0wxhuw8L0MrqMHjGpGParG1S6U8DsUaJ9gjOqNniVg8ZsmTbxw"/>
          <p:cNvPicPr/>
          <p:nvPr/>
        </p:nvPicPr>
        <p:blipFill>
          <a:blip r:embed="rId1"/>
          <a:stretch/>
        </p:blipFill>
        <p:spPr>
          <a:xfrm>
            <a:off x="380880" y="2743200"/>
            <a:ext cx="8001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2.gstatic.com/images?q=tbn:ANd9GcR_b0YuBcSuJxtS5mjP57H1115sDevg-vfZB-gSW3M66lT_0pc1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0.gstatic.com/images?q=tbn:ANd9GcQiIHf-aWmOdggel0HzX0uq450mujGGsqwGWFtcn3qkB97WfghF"/>
          <p:cNvPicPr/>
          <p:nvPr/>
        </p:nvPicPr>
        <p:blipFill>
          <a:blip r:embed="rId1"/>
          <a:stretch/>
        </p:blipFill>
        <p:spPr>
          <a:xfrm>
            <a:off x="990720" y="27432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1981080" y="2895480"/>
            <a:ext cx="472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jb34.jpg"/>
          <p:cNvPicPr/>
          <p:nvPr/>
        </p:nvPicPr>
        <p:blipFill>
          <a:blip r:embed="rId1"/>
          <a:stretch/>
        </p:blipFill>
        <p:spPr>
          <a:xfrm>
            <a:off x="457200" y="236232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imagesbjb9.jpg"/>
          <p:cNvPicPr/>
          <p:nvPr/>
        </p:nvPicPr>
        <p:blipFill>
          <a:blip r:embed="rId1"/>
          <a:stretch/>
        </p:blipFill>
        <p:spPr>
          <a:xfrm>
            <a:off x="380880" y="2438280"/>
            <a:ext cx="8153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emosthenes_assembly_athensbjb.jpg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rchive.worldhistoria.com/uploads/30663/Attila_.GIF"/>
          <p:cNvPicPr/>
          <p:nvPr/>
        </p:nvPicPr>
        <p:blipFill>
          <a:blip r:embed="rId1"/>
          <a:stretch/>
        </p:blipFill>
        <p:spPr>
          <a:xfrm>
            <a:off x="457200" y="2438280"/>
            <a:ext cx="792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THnrvcskzN8c2rCM_BX4NrB_20R0_e-Lh1rN_TZ23Z2I3hXVWQzg"/>
          <p:cNvPicPr/>
          <p:nvPr/>
        </p:nvPicPr>
        <p:blipFill>
          <a:blip r:embed="rId1"/>
          <a:stretch/>
        </p:blipFill>
        <p:spPr>
          <a:xfrm>
            <a:off x="838080" y="3048120"/>
            <a:ext cx="746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.jpg"/>
          <p:cNvPicPr/>
          <p:nvPr/>
        </p:nvPicPr>
        <p:blipFill>
          <a:blip r:embed="rId1"/>
          <a:stretch/>
        </p:blipFill>
        <p:spPr>
          <a:xfrm>
            <a:off x="304920" y="289548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t2.gstatic.com/images?q=tbn:ANd9GcQ8v0gw8SL14PSaqXuoaSc0TrpWVIGFIPWIqGcVcA_nppQjg1WDtg"/>
          <p:cNvPicPr/>
          <p:nvPr/>
        </p:nvPicPr>
        <p:blipFill>
          <a:blip r:embed="rId1"/>
          <a:stretch/>
        </p:blipFill>
        <p:spPr>
          <a:xfrm>
            <a:off x="304920" y="2743200"/>
            <a:ext cx="792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3429000"/>
            <a:ext cx="5791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6T20:59:11Z</dcterms:modified>
  <cp:revision>92</cp:revision>
  <dc:subject/>
  <dc:title>Ancient Greece</dc:title>
</cp:coreProperties>
</file>